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F9F-667B-452A-A653-82445B96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389592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0A8-E4A3-419C-B813-A567C8F9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4076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DB4-B82B-4336-912C-F61EC185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3992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5124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3992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5124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D74-4B13-4E7B-8F39-076D53C3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B375-AAA7-43DF-B9C4-86159CE5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062D-8FB9-4756-AC77-E3E41FFA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57BE-AF50-4E81-95A2-009AB27C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983F-C81E-4E04-9BD2-F3707023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F75A-4B00-418E-9605-E731E8FC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61048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3343-E1AA-40AE-AE14-E19BEDA5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E3D3-BF8C-42D9-9A82-24EA4513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AE0-B12C-43B8-8EEF-C1CF8A7D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4076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1C32-D520-4690-BDE6-845B0EB5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389592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795B-6C7E-4DCF-BF5A-66B1B9BA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8600" y="389592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BE90-20D2-4C7B-83CB-7317E266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860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4076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472D-9FA9-46F6-9CB0-56CD7F93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3992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5124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860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3992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5124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3CF6-844F-4A6A-A35E-47259BA8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3C2-3BE2-42F4-89C7-C56C7E79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D54B-ED08-4069-A0F6-A025906E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254A-DCA7-4991-AFAB-F1B7D057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61048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C54-1E72-4124-AB2F-04D06DD6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AA62-7509-4267-BB74-9E663EBC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4076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12B-9363-44A2-B793-2D504CC4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0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89592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BAD-64D5-4739-BBB3-B5499A70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badi MT Condensed Light"/>
              </a:rPr>
              <a:t>Click to edit the title text format</a:t>
            </a: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16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badi MT Condensed Light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  <a:p>
            <a:pPr lvl="1" marL="343080" indent="-343080">
              <a:spcBef>
                <a:spcPts val="799"/>
              </a:spcBef>
              <a:buClr>
                <a:srgbClr val="ffe69f"/>
              </a:buClr>
              <a:buFont typeface="Abadi MT Condensed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badi MT Condensed Light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  <a:p>
            <a:pPr lvl="2" marL="343080" indent="-343080">
              <a:spcBef>
                <a:spcPts val="799"/>
              </a:spcBef>
              <a:buClr>
                <a:srgbClr val="ffff99"/>
              </a:buClr>
              <a:buFont typeface="Abadi MT Condensed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badi MT Condensed Light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  <a:p>
            <a:pPr lvl="3" marL="343080" indent="-343080">
              <a:spcBef>
                <a:spcPts val="799"/>
              </a:spcBef>
              <a:buClr>
                <a:srgbClr val="ffffcc"/>
              </a:buClr>
              <a:buFont typeface="Abadi MT Condensed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badi MT Condensed Light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badi MT Condensed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badi MT Condensed Light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badi MT Condensed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badi MT Condensed Light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badi MT Condensed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badi MT Condensed Light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5AE0-36BA-42A1-A2B8-AB48C66E2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badi MT Condensed Light"/>
              </a:rPr>
              <a:t>Click to edit the title text format</a:t>
            </a:r>
            <a:endParaRPr b="0" lang="en-US" sz="3600" spc="-1" strike="noStrike">
              <a:solidFill>
                <a:srgbClr val="ff9900"/>
              </a:solidFill>
              <a:latin typeface="Abadi MT Condensed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A82D-96D0-49DC-BE70-763BE7F25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badi MT Condensed Light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Abadi MT Condensed Ligh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9f"/>
                </a:solidFill>
                <a:latin typeface="Abadi MT Condensed Light"/>
              </a:rPr>
              <a:t>Second Outline Level</a:t>
            </a:r>
            <a:endParaRPr b="0" lang="en-US" sz="2800" spc="-1" strike="noStrike">
              <a:solidFill>
                <a:srgbClr val="ffe69f"/>
              </a:solidFill>
              <a:latin typeface="Abadi MT Condensed Light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Abadi MT Condensed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badi MT Condensed Light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badi MT Condensed Light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badi MT Condensed Ligh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badi MT Condensed Ligh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badi MT Condensed Light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badi MT Condensed Light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badi MT Condensed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badi MT Condensed Light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badi MT Condensed Light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badi MT Condensed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badi MT Condensed Light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871640" y="1160640"/>
            <a:ext cx="5508720" cy="471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bjetos 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 Maple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2360" y="4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9900"/>
                </a:solidFill>
                <a:latin typeface="Times New Roman"/>
              </a:rPr>
              <a:t>Listas en Maple: </a:t>
            </a: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l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6000" y="1674720"/>
            <a:ext cx="871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ista es la estructura más usada en Ma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samos corchetes para definir una lis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a lista es una sucesión encerrada entre corche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ple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preserv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orden y  repeticion en una lis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n argumentos naturales de varios de los coman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[a,b,c], [c,b,a] son dos listas difer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po (type):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6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43000" y="237960"/>
            <a:ext cx="6858000" cy="6382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32000" y="124308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L:=[ sin , cos , tan , cot, sec, csc];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00240" y="1413000"/>
            <a:ext cx="4524120" cy="628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03280" y="177336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L[2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92360" y="578016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orte"/>
              </a:rPr>
              <a:t>Referenciando elementos de la l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198440" y="1844640"/>
            <a:ext cx="3829320" cy="657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03280" y="2205000"/>
            <a:ext cx="26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L[2..4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224000" y="2286000"/>
            <a:ext cx="3857760" cy="638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03280" y="263700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L[3..-2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1187280" y="2708280"/>
            <a:ext cx="4143600" cy="63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40000" y="306864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whattype(L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1224000" y="3141720"/>
            <a:ext cx="3828960" cy="628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59280" y="4041720"/>
            <a:ext cx="316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35640" y="4834080"/>
            <a:ext cx="345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3280" y="368280"/>
            <a:ext cx="70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whattype( ),  op( ),  nops( 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1280" y="2708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80504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whattype(x^2+y^2-4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11640" y="2565360"/>
            <a:ext cx="3552840" cy="2085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4000" y="331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op(x^2+y^2-4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916360" y="4059360"/>
            <a:ext cx="1047600" cy="485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124000" y="4653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Bradley Hand ITC"/>
              </a:rPr>
              <a:t>suc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50817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nops(x^2+y^2-4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71640" y="5769000"/>
            <a:ext cx="118764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59280" y="4041720"/>
            <a:ext cx="316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35640" y="4834080"/>
            <a:ext cx="345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115920"/>
            <a:ext cx="70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whattype( ),  op( ),  nops( 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19700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whattype(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(a+b)^2 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8162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op((a+b)^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681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radley Hand ITC"/>
              </a:rPr>
              <a:t>suc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45784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op(1,(a+b)^2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19640" y="4618080"/>
            <a:ext cx="118764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916360" y="1881360"/>
            <a:ext cx="718920" cy="679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688000" y="1457280"/>
            <a:ext cx="2800440" cy="1971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808360" y="3500280"/>
            <a:ext cx="1473120" cy="671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58920" y="56577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op(2,(a+b)^2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16360" y="5697360"/>
            <a:ext cx="1187640" cy="54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360" y="4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map( ) y zip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512640"/>
            <a:ext cx="1404720" cy="68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1640" y="141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licar una función a lo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mponent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de una expr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20239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(a+b)^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40000" y="2637000"/>
            <a:ext cx="2571840" cy="1933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03280" y="4941720"/>
            <a:ext cx="40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map(f, (a+b)^2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4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map( ) y zip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512640"/>
            <a:ext cx="1404720" cy="68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92720" y="549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(a+b)^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896000" y="1197000"/>
            <a:ext cx="2571480" cy="1933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3429000"/>
            <a:ext cx="40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map(sin, (a+b)^2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967280" y="3429000"/>
            <a:ext cx="2371680" cy="1952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2303640" y="4834080"/>
            <a:ext cx="1533240" cy="571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2360" y="4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map( ) y zip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268280"/>
            <a:ext cx="69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lica una función a los componentes de dos 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95264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zip(f, [a,b,c],[x,y,z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4413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zip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6804000" cy="1352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2360" y="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subsop y  algsub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000" y="873000"/>
            <a:ext cx="69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mbiar parte de una expr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1771560"/>
            <a:ext cx="70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expr:=(x^2+3)/(x+1)+(x^2+1)+3+2*x: exp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24360" y="2276640"/>
            <a:ext cx="2663640" cy="9237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24000" y="3463920"/>
            <a:ext cx="56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subsop(3=1/(a^2+1), exp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987640" y="4041720"/>
            <a:ext cx="2581200" cy="857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87280" y="5119560"/>
            <a:ext cx="56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subsop(4=1/(a^2+1), exp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244680" y="5700600"/>
            <a:ext cx="2372040" cy="752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2360" y="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subsop y  algsub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2000" y="873000"/>
            <a:ext cx="69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mbiar parte de una expr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7715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subs(a+b=z, a+b+c+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3463920"/>
            <a:ext cx="56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algsubs(a+b=z, a+b+c+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7280" y="5119560"/>
            <a:ext cx="56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lgsubs</a:t>
            </a:r>
            <a:r>
              <a:rPr b="1" lang="es-ES" sz="2000" spc="-1" strike="noStrike">
                <a:solidFill>
                  <a:srgbClr val="ff0000"/>
                </a:solidFill>
                <a:latin typeface="Courier New"/>
              </a:rPr>
              <a:t>(a+d=Q, a+b+c+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059280" y="2313000"/>
            <a:ext cx="2247840" cy="627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580000" y="238428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orte"/>
              </a:rPr>
              <a:t>No hay camb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220824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600360" y="5697360"/>
            <a:ext cx="1908360" cy="793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2619360"/>
            <a:ext cx="8459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lmacena e identifica los elementos que mane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ructura que tiene los obje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iferentes representación de un mismo obje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endo las partes internas de un obje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ambiando un objeto actuando en sus partes intern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12640"/>
            <a:ext cx="51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expr:=2*y+(3+2*x/5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94000" y="1449360"/>
            <a:ext cx="485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cript MT Bold"/>
              </a:rPr>
              <a:t>Objeto interno en Ma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65080" y="1989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Times New Roman"/>
              </a:rPr>
              <a:t>Maple, internam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4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1160640"/>
            <a:ext cx="8245440" cy="58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La estructura más básica son las 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suce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Son expresiones separadas por c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Tipo: </a:t>
            </a:r>
            <a:r>
              <a:rPr b="1" lang="es-ES" sz="2800" spc="-1" strike="noStrike">
                <a:solidFill>
                  <a:srgbClr val="ff9900"/>
                </a:solidFill>
                <a:latin typeface="Times New Roman"/>
              </a:rPr>
              <a:t>exprse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urier New"/>
              </a:rPr>
              <a:t>nops([A]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reserva orden y repet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[j], es el j-ésimo elemento de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[j], cuándo tiene senti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Los índices: 1,2,3,4,5,6,7,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88920" y="441360"/>
            <a:ext cx="71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urier New"/>
              </a:rPr>
              <a:t>A:= a, b/c, y, d, a,e, x^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8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2400" y="176040"/>
            <a:ext cx="7639200" cy="650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16000" y="1413000"/>
            <a:ext cx="50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:=seq(1/j, j=1..20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5842080"/>
            <a:ext cx="68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Construyendo sucesion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63640" y="1484280"/>
            <a:ext cx="5467320" cy="885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55880" y="20970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nops([A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863640" y="2158920"/>
            <a:ext cx="3457440" cy="657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79640" y="2529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[10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879480" y="2600280"/>
            <a:ext cx="3705120" cy="885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42920" y="32130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whattype(A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817560" y="3284640"/>
            <a:ext cx="3790800" cy="666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2400" y="176040"/>
            <a:ext cx="7639200" cy="6505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1413000"/>
            <a:ext cx="50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:=seq(1/j, j=100..110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5842080"/>
            <a:ext cx="68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Construyendo sucesion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06480" y="1484280"/>
            <a:ext cx="5105520" cy="876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92240" y="20797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nops([A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87400" y="2133720"/>
            <a:ext cx="3790800" cy="647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52360" y="2492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[2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00000" y="2565360"/>
            <a:ext cx="3886200" cy="885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52360" y="3195720"/>
            <a:ext cx="37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whattype(A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900000" y="3249720"/>
            <a:ext cx="3571920" cy="657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52400" y="176040"/>
            <a:ext cx="7639200" cy="6505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79640" y="1413000"/>
            <a:ext cx="50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seq( f(p, i, q, r), i=[a,b,c,d,e,f]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5842080"/>
            <a:ext cx="68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Construyendo sucesion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76240" y="1484280"/>
            <a:ext cx="5496120" cy="638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92240" y="18446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nops([%]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76240" y="1916280"/>
            <a:ext cx="3381480" cy="628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79640" y="229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%%[8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863640" y="2349360"/>
            <a:ext cx="2724120" cy="790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7280" y="65736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360" y="4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9900"/>
                </a:solidFill>
                <a:latin typeface="Times New Roman"/>
              </a:rPr>
              <a:t>Conjuntos en Maple: </a:t>
            </a: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s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000" y="1674720"/>
            <a:ext cx="87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ple soporta conjuntos en el sentido matemát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mo matemáticas, usamos la llaves para definirl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 conjunto es una sucesión encerrada entre llav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ple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no preserv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orden o repeticion en un conjun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conjuntos en Maple se comportan como los conjuntos en matemát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{a,b,c}, {c,b,a}, {a,a,b,c,a} son conjuntos idéntic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po (type):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4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435640" y="4834080"/>
            <a:ext cx="345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43000" y="237960"/>
            <a:ext cx="6858000" cy="6382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03280" y="1376280"/>
            <a:ext cx="46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:={Pedro, Luisa, Juan, Pedro};</a:t>
            </a:r>
            <a:br>
              <a:rPr sz="1400"/>
            </a:b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B:={Toby, Carlos, Ana, Luisa}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4505400" cy="1076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368360" y="220500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op(B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76560" y="5697360"/>
            <a:ext cx="47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Bradley Hand ITC"/>
              </a:rPr>
              <a:t>Los elementos del conjunto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187280" y="2276640"/>
            <a:ext cx="4267440" cy="628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435640" y="4834080"/>
            <a:ext cx="345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43000" y="237960"/>
            <a:ext cx="6858000" cy="6382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03280" y="1376280"/>
            <a:ext cx="46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:={Pedro, Luisa, Juan, Pedro};</a:t>
            </a:r>
            <a:br>
              <a:rPr sz="1400"/>
            </a:b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B:={Toby, Carlos, Ana, Luisa}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4505400" cy="1076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176560" y="5697360"/>
            <a:ext cx="47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Forte"/>
              </a:rPr>
              <a:t>Operaciones entre conjunto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68360" y="222408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 union B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187280" y="2276640"/>
            <a:ext cx="4648320" cy="609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3280" y="261936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 intersect B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208160" y="2701800"/>
            <a:ext cx="3724200" cy="619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03280" y="308772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 minus B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224000" y="3176640"/>
            <a:ext cx="3981240" cy="61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403280" y="353700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 subset B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224000" y="3608280"/>
            <a:ext cx="3647880" cy="647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9:58:59Z</dcterms:created>
  <dc:creator>Michael Stuart</dc:creator>
  <dc:description/>
  <dc:language>en-US</dc:language>
  <cp:lastModifiedBy>Aristides Arellán</cp:lastModifiedBy>
  <dcterms:modified xsi:type="dcterms:W3CDTF">2004-07-23T06:07:02Z</dcterms:modified>
  <cp:revision>1217</cp:revision>
  <dc:subject/>
  <dc:title>No Slide Title</dc:title>
</cp:coreProperties>
</file>