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5B9-4BF0-46F3-83BC-9734DCB4532D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95E-5E2C-4867-8292-D1CE37998B88}" type="slidenum">
              <a:rPr b="0" lang="es-V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287-B5CC-41DC-9448-6ED7AA42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47D-2226-48BA-9152-A31DB47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74C-D372-45A0-8173-2EFC29CB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C45-5AFC-46AE-BFF5-3C47493D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CDD1-B406-41E5-B627-0F83055B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50D4-895F-4F75-84FC-3A2EF92C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5BD8-DE6A-4E33-A14D-CEC6E98D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7C0-CF35-4A66-A8CE-6C6B595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B23F-D702-4E85-B81E-494D0FD4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1FD-5070-4DED-B299-FB717779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E849-4354-4C31-9DD9-6C2B0F6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DAE-26B8-4220-859E-36683924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21BE-1F5D-4EC2-9F11-1D9C0E1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4C51-A15D-44F1-B3E5-3DD6E98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45D1-5C60-44FF-BF33-7678EF3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305E-C969-40BF-B5A4-4D74CA24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DF5F-CB48-411E-8EB9-0E8F558A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E9FB-06C5-4BCE-A25F-DF00BE83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4BCE-E840-4FD7-8CDC-8384A23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AF7D-BDDA-4A83-AA88-7F0675C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3EC1-D331-4CE7-85B3-3303A59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A370-E564-46B0-8849-2E7266F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881-330E-4604-ACC4-A3C52362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D72B-765F-4764-B67F-8820C131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CC13-AA29-478D-BD29-D71F828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A127-9F3F-4E57-9EDA-7C24462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71BB-13B7-4457-AA48-7371D0D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D836-730B-49B7-A89E-BCAE851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83D8-2BB4-440C-B9B8-6A6F7553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CF60-48E2-4B20-BF9E-5C42C506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F851-0A21-439E-A8AC-281DA7FC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3DB1-15BB-42A4-9852-7F3AE09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4BBE-F077-4D49-997E-8A15858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210-4968-43DE-97EA-463CC5BB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C8BB-4980-47B4-9418-F684245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790F-22B8-4D81-A7DC-1D17A88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B746-99A8-4544-B07E-F774B69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0134-AB49-4E43-A1E7-6F46B82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914B-4698-46CA-BD2E-1BAADCA1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95B4-268F-4228-8E22-763FDC7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3250-7726-4E39-BB03-C989D9E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4EC6-9201-48CC-AD00-CD0907A8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1433-462F-4B5A-8BCB-E636820C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1D51-B902-4347-AAC3-13C81AA7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FBC-57A5-4CCA-9484-49F2B28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3230-F438-4A58-B3B2-CE67472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2B1E-7549-48EC-8A2D-15B2BBF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B478-BA7F-4789-8F91-EF8C2D0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BA73-2479-43B9-B296-1D93F02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EB8D-EC00-49BD-91B0-B4EB1FFF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A6AB-0944-4019-8608-4D1A1CD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FD62-9A6E-422E-8CF2-28FF171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A3F9-77F2-4341-BBF3-AE7DB46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6DE9-C47B-44B4-9761-A0FA8EF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3665-38EF-414B-B63C-FF729A58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B21-E284-4C7C-BB6A-11252C6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25E5-F278-4DA6-BE69-C04A5405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321-3595-4353-A372-6D90DEA6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79B-1624-45AD-BBA0-C9BABF3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00C-BAA2-4B92-9EB8-2F5D2F9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E5C9-5775-4BB3-B76F-A491C0C70E2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1" descr="patron_diapositiv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7EE-596E-44A7-BCA4-69601FBE87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3D7-9011-4BFD-A212-FA17DC76F6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ventana_sin_linea_comand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8BE-6F84-4767-9E06-97CB4BAC81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ventana_sin_linea_comand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8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8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DEB-2247-4ED7-A17A-8FEE678F977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6"/>
          <p:cNvSpPr/>
          <p:nvPr/>
        </p:nvSpPr>
        <p:spPr>
          <a:xfrm>
            <a:off x="1692360" y="1413000"/>
            <a:ext cx="486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ffffff"/>
                </a:solidFill>
                <a:latin typeface="Times New Roman"/>
              </a:rPr>
              <a:t>Manejo Simbólic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la variable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135000" y="1125360"/>
            <a:ext cx="4724280" cy="1133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503280" y="1916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2"/>
          <a:stretch/>
        </p:blipFill>
        <p:spPr>
          <a:xfrm>
            <a:off x="127080" y="1157400"/>
            <a:ext cx="4647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infi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127080" y="1197000"/>
            <a:ext cx="4647960" cy="15145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95280" y="240660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infinit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2"/>
          <a:stretch/>
        </p:blipFill>
        <p:spPr>
          <a:xfrm>
            <a:off x="203040" y="1238400"/>
            <a:ext cx="4695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ariables que no tienen valor asignado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Viendo el valor de una variable 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695840" cy="1952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95280" y="267336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algebr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179280" y="1071720"/>
            <a:ext cx="4610160" cy="242856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8"/>
          <p:cNvSpPr/>
          <p:nvPr/>
        </p:nvSpPr>
        <p:spPr>
          <a:xfrm>
            <a:off x="4680000" y="2852640"/>
            <a:ext cx="2879640" cy="468360"/>
          </a:xfrm>
          <a:prstGeom prst="leftArrow">
            <a:avLst>
              <a:gd name="adj1" fmla="val 50000"/>
              <a:gd name="adj2" fmla="val 153709"/>
            </a:avLst>
          </a:prstGeom>
          <a:solidFill>
            <a:srgbClr val="ffff99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9999"/>
                </a:solidFill>
                <a:latin typeface="Times New Roman"/>
              </a:rPr>
              <a:t>El mismo nombr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alores previamente asignado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gunos valores notables están previamente definid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79280" y="119700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cos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352760" cy="733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468360" y="164160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Pi/2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11" descr=""/>
          <p:cNvPicPr/>
          <p:nvPr/>
        </p:nvPicPr>
        <p:blipFill>
          <a:blip r:embed="rId2"/>
          <a:stretch/>
        </p:blipFill>
        <p:spPr>
          <a:xfrm>
            <a:off x="223920" y="1279440"/>
            <a:ext cx="4238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 todo está asig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gunos valores son exactos, simbó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117360" y="1160640"/>
            <a:ext cx="4238640" cy="1104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58920" y="196704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Pi/5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165240" y="1160640"/>
            <a:ext cx="44384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 todo está asig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Si queremos aproximaciones, lo indicamos explíci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38800" cy="13618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395280" y="224172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%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200160" y="1197000"/>
            <a:ext cx="4524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mbres no permit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080" y="5291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¿Qué? Si usamos nombres no permi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79280" y="1268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Aristides Arellan:=1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2657520" cy="648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8"/>
          <p:cNvSpPr/>
          <p:nvPr/>
        </p:nvSpPr>
        <p:spPr>
          <a:xfrm>
            <a:off x="108000" y="61405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Maple nos indica error en el coman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195640" y="1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Nombres no permit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¿Quél error tiene el coman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tretch/>
        </p:blipFill>
        <p:spPr>
          <a:xfrm>
            <a:off x="201600" y="1160640"/>
            <a:ext cx="2533680" cy="618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431640" y="3933720"/>
            <a:ext cx="6408720" cy="1689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216000" y="112536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Aristides_Arellan:=1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Picture 9" descr=""/>
          <p:cNvPicPr/>
          <p:nvPr/>
        </p:nvPicPr>
        <p:blipFill>
          <a:blip r:embed="rId3"/>
          <a:stretch/>
        </p:blipFill>
        <p:spPr>
          <a:xfrm>
            <a:off x="210960" y="1125360"/>
            <a:ext cx="46674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Mucho cuidado con el número Pi y la letra griega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79280" y="1268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 P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4162320" cy="657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468360" y="16653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10" descr=""/>
          <p:cNvPicPr/>
          <p:nvPr/>
        </p:nvPicPr>
        <p:blipFill>
          <a:blip r:embed="rId2"/>
          <a:stretch/>
        </p:blipFill>
        <p:spPr>
          <a:xfrm>
            <a:off x="216000" y="1305000"/>
            <a:ext cx="4848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a letra griega pi (minúscu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1"/>
          <a:stretch/>
        </p:blipFill>
        <p:spPr>
          <a:xfrm>
            <a:off x="142920" y="1160640"/>
            <a:ext cx="4848120" cy="1123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7"/>
          <p:cNvSpPr/>
          <p:nvPr/>
        </p:nvSpPr>
        <p:spPr>
          <a:xfrm>
            <a:off x="395280" y="19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p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216000" y="1197000"/>
            <a:ext cx="5019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780000" y="-12060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Definiendo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308720" y="-633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Stencil"/>
              </a:rPr>
              <a:t>:=</a:t>
            </a:r>
            <a:r>
              <a:rPr b="1" lang="es-E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42920" y="569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“dos punto con igual” es una unidad que usamos para definir y asignar valores a la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743280" y="14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os cosas diferent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a letra griega pi, no es un nú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7199280" y="-111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Pi </a:t>
            </a:r>
            <a:r>
              <a:rPr b="1" lang="es-ES" sz="1800" spc="-1" strike="noStrike">
                <a:solidFill>
                  <a:srgbClr val="808080"/>
                </a:solidFill>
                <a:latin typeface="Courier New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"/>
          <a:stretch/>
        </p:blipFill>
        <p:spPr>
          <a:xfrm>
            <a:off x="200160" y="1089000"/>
            <a:ext cx="5019480" cy="2085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431640" y="2276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8" descr=""/>
          <p:cNvPicPr/>
          <p:nvPr/>
        </p:nvPicPr>
        <p:blipFill>
          <a:blip r:embed="rId2"/>
          <a:stretch/>
        </p:blipFill>
        <p:spPr>
          <a:xfrm>
            <a:off x="179280" y="1089000"/>
            <a:ext cx="48769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4753080" y="14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Todas las letras grieg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4920" y="62658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9900"/>
                </a:solidFill>
                <a:latin typeface="Times New Roman"/>
              </a:rPr>
              <a:t>Las letras griegas se referencian con sus respectivos nombres en i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216000" y="1089000"/>
            <a:ext cx="385128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alpha          alpha        Alph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beta           beta         Beta *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gamma          gamma *      Gamm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delta          delta        Delt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epsilon        epsilon      Epsil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zeta           zeta         ZETA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eta            eta          Eta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theta          theta        Thet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iota           iota         Iota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kappa          kappa        Kapp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lambda         lambda       Lambda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mu             mu           Mu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nu             nu           Nu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xi             xi           Xi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omicron        omicron      Omicr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i             pi           PI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rho            rho          Rho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sigma          sigma        Sigma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tau            tau          Tau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upsilon        upsilon      Upsil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hi            phi          Phi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chi            chi          CHI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psi            psi          Psi *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s-VE" sz="1400" spc="-1" strike="noStrike">
                <a:solidFill>
                  <a:srgbClr val="808080"/>
                </a:solidFill>
                <a:latin typeface="Times New Roman"/>
              </a:rPr>
              <a:t>omega          omega        Omega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11" descr="LETRAS_GREEK"/>
          <p:cNvPicPr/>
          <p:nvPr/>
        </p:nvPicPr>
        <p:blipFill>
          <a:blip r:embed="rId1"/>
          <a:stretch/>
        </p:blipFill>
        <p:spPr>
          <a:xfrm>
            <a:off x="4500720" y="1952640"/>
            <a:ext cx="2722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708360" y="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Trabajando con Letras grie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Una identidad conocid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9280" y="1233360"/>
            <a:ext cx="69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cos(alpha+beta)=expand(cos(alpha+beta)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8" descr=""/>
          <p:cNvPicPr/>
          <p:nvPr/>
        </p:nvPicPr>
        <p:blipFill>
          <a:blip r:embed="rId1"/>
          <a:stretch/>
        </p:blipFill>
        <p:spPr>
          <a:xfrm>
            <a:off x="263520" y="1290600"/>
            <a:ext cx="5676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24000" y="14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tencil"/>
              </a:rPr>
              <a:t>Nombres reservados al sistema Ma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42920" y="418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os nombres de los comandos  el usuario no puede usarlo como nombre de su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31640" y="2276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Otros nombres del sist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142920" y="52657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os nombres de las constantes como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Pi, Digits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..tampoco son permitidas al usu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9" descr="palabras_reservadas"/>
          <p:cNvPicPr/>
          <p:nvPr/>
        </p:nvPicPr>
        <p:blipFill>
          <a:blip r:embed="rId1"/>
          <a:stretch/>
        </p:blipFill>
        <p:spPr>
          <a:xfrm>
            <a:off x="4103640" y="1160640"/>
            <a:ext cx="27590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2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bajando con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79280" y="1449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masa:=5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0" y="609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s operaciones sobre una variable no alteran el valor de la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Picture 15" descr=""/>
          <p:cNvPicPr/>
          <p:nvPr/>
        </p:nvPicPr>
        <p:blipFill>
          <a:blip r:embed="rId1"/>
          <a:stretch/>
        </p:blipFill>
        <p:spPr>
          <a:xfrm>
            <a:off x="216000" y="1449360"/>
            <a:ext cx="4438440" cy="7714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468360" y="184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2:=masa^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Picture 16" descr=""/>
          <p:cNvPicPr/>
          <p:nvPr/>
        </p:nvPicPr>
        <p:blipFill>
          <a:blip r:embed="rId2"/>
          <a:stretch/>
        </p:blipFill>
        <p:spPr>
          <a:xfrm>
            <a:off x="250920" y="1449360"/>
            <a:ext cx="4676760" cy="11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71280" y="1125360"/>
            <a:ext cx="4676760" cy="1114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bajando con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 variable masa conserva el valor asig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68360" y="1916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458136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iminando el valor que tiene una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ncerramos el nombre de la variable entre apóstrof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35000" y="1233360"/>
            <a:ext cx="4581360" cy="1505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31640" y="238428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:= ‘masa’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142920" y="1197000"/>
            <a:ext cx="4667040" cy="194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943280" y="-100080"/>
            <a:ext cx="63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iminando el valor que tiene una variable</a:t>
            </a:r>
            <a:r>
              <a:rPr b="0" lang="es-MX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42920" y="6175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Viendo el valor que tiene la variable m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2920" y="1125360"/>
            <a:ext cx="4667040" cy="19432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431640" y="278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mas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179280" y="1160640"/>
            <a:ext cx="501984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4894200" y="7920"/>
            <a:ext cx="2702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símbolo igu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Picture 14" descr="signo_igual"/>
          <p:cNvPicPr/>
          <p:nvPr/>
        </p:nvPicPr>
        <p:blipFill>
          <a:blip r:embed="rId1"/>
          <a:stretch/>
        </p:blipFill>
        <p:spPr>
          <a:xfrm>
            <a:off x="7667640" y="0"/>
            <a:ext cx="514440" cy="295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5"/>
          <p:cNvSpPr/>
          <p:nvPr/>
        </p:nvSpPr>
        <p:spPr>
          <a:xfrm>
            <a:off x="250920" y="605808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9900"/>
                </a:solidFill>
                <a:latin typeface="Times New Roman"/>
              </a:rPr>
              <a:t>Sea usa en Maple para crear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42920" y="126828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 ec:= a^2=b^2 + c^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25" descr=""/>
          <p:cNvPicPr/>
          <p:nvPr/>
        </p:nvPicPr>
        <p:blipFill>
          <a:blip r:embed="rId2"/>
          <a:stretch/>
        </p:blipFill>
        <p:spPr>
          <a:xfrm>
            <a:off x="216000" y="1305000"/>
            <a:ext cx="4905360" cy="8096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8"/>
          <p:cNvSpPr/>
          <p:nvPr/>
        </p:nvSpPr>
        <p:spPr>
          <a:xfrm>
            <a:off x="431640" y="175572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:= a^2=b^2 + c^2: %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Picture 26" descr=""/>
          <p:cNvPicPr/>
          <p:nvPr/>
        </p:nvPicPr>
        <p:blipFill>
          <a:blip r:embed="rId3"/>
          <a:stretch/>
        </p:blipFill>
        <p:spPr>
          <a:xfrm>
            <a:off x="192240" y="1305000"/>
            <a:ext cx="4876560" cy="13618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1"/>
          <p:cNvSpPr/>
          <p:nvPr/>
        </p:nvSpPr>
        <p:spPr>
          <a:xfrm>
            <a:off x="431640" y="231300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2:= sin(x)^2+cos(x)^2=1:%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27" descr=""/>
          <p:cNvPicPr/>
          <p:nvPr/>
        </p:nvPicPr>
        <p:blipFill>
          <a:blip r:embed="rId4"/>
          <a:stretch/>
        </p:blipFill>
        <p:spPr>
          <a:xfrm>
            <a:off x="216000" y="1305000"/>
            <a:ext cx="4857480" cy="1809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23"/>
          <p:cNvSpPr/>
          <p:nvPr/>
        </p:nvSpPr>
        <p:spPr>
          <a:xfrm>
            <a:off x="468360" y="2852640"/>
            <a:ext cx="39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Courier New"/>
              </a:rPr>
              <a:t>ec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28" descr=""/>
          <p:cNvPicPr/>
          <p:nvPr/>
        </p:nvPicPr>
        <p:blipFill>
          <a:blip r:embed="rId5"/>
          <a:stretch/>
        </p:blipFill>
        <p:spPr>
          <a:xfrm>
            <a:off x="250920" y="1341360"/>
            <a:ext cx="5267160" cy="23050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9"/>
          <p:cNvSpPr/>
          <p:nvPr/>
        </p:nvSpPr>
        <p:spPr>
          <a:xfrm>
            <a:off x="514836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bbe0e3"/>
                </a:solidFill>
                <a:latin typeface="Times New Roman"/>
              </a:rPr>
              <a:t>Note la diferencia de salid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894200" y="7920"/>
            <a:ext cx="2702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símbolo igu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00000" y="31417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9900"/>
                </a:solidFill>
                <a:latin typeface="Times New Roman"/>
              </a:rPr>
              <a:t>Final del tutorial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odo nombre dado por el usuario debe iniciarse con una le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792000" y="206064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/>
          <p:cNvSpPr/>
          <p:nvPr/>
        </p:nvSpPr>
        <p:spPr>
          <a:xfrm>
            <a:off x="1727280" y="2457360"/>
            <a:ext cx="1619280" cy="1584360"/>
          </a:xfrm>
          <a:prstGeom prst="irregularSeal1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mplos de nombres permitidos para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Nombres no permi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41964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2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419640" y="41353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^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3419640" y="48798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/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3419640" y="5624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92360" y="-11448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tencil"/>
              </a:rPr>
              <a:t>Algoritmo para los nombres de variables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Nombres (variables) difer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92000" y="1305000"/>
            <a:ext cx="6409080" cy="16891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39528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95280" y="4149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5280" y="47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95280" y="54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_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419640" y="33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2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419640" y="41353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^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419640" y="48798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/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419640" y="5624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08080"/>
                </a:solidFill>
                <a:latin typeface="Times New Roman"/>
              </a:rPr>
              <a:t>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13"/>
          <p:cNvSpPr/>
          <p:nvPr/>
        </p:nvSpPr>
        <p:spPr>
          <a:xfrm rot="2688000">
            <a:off x="1193400" y="4630680"/>
            <a:ext cx="2627280" cy="503280"/>
          </a:xfrm>
          <a:prstGeom prst="leftRightArrow">
            <a:avLst>
              <a:gd name="adj1" fmla="val 50000"/>
              <a:gd name="adj2" fmla="val 103923"/>
            </a:avLst>
          </a:prstGeom>
          <a:solidFill>
            <a:srgbClr val="cc99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ándole valor a una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os valores se asignan con la unidad “dos punto-igu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16000" y="130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0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:=6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Dándole valor a una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Al ejecutar se crea la variable “velocidad” con el valor de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16000" y="130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Courier New"/>
              </a:rPr>
              <a:t>[&gt;</a:t>
            </a:r>
            <a:r>
              <a:rPr b="0" lang="es-E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:=6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287280" y="1305000"/>
            <a:ext cx="4543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195640" y="-120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tencil"/>
              </a:rPr>
              <a:t>Viendo el valor que tiene variable</a:t>
            </a:r>
            <a:r>
              <a:rPr b="0" lang="es-ES" sz="2800" spc="-1" strike="noStrike">
                <a:solidFill>
                  <a:srgbClr val="009999"/>
                </a:solidFill>
                <a:latin typeface="Stenci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79280" y="6129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Para ello, escribimos el valor de la variable y ejecutam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543560" cy="771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431640" y="1576440"/>
            <a:ext cx="48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velocida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179280" y="1233360"/>
            <a:ext cx="4724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4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Noemi</cp:lastModifiedBy>
  <dcterms:modified xsi:type="dcterms:W3CDTF">2009-12-08T12:52:45Z</dcterms:modified>
  <cp:revision>601</cp:revision>
  <dc:subject/>
  <dc:title>No Slide Title</dc:title>
</cp:coreProperties>
</file>