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2.wmf" ContentType="image/x-wmf"/>
  <Override PartName="/ppt/media/image25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7B4-4268-4CBB-A9BD-DB4FE05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CE7-0B7F-4A42-ADE5-4D165F6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996-8109-4580-9553-B79BE1EB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122-D7CE-49A1-9EB2-EF63ABEC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8C9-E5C9-406B-84F0-6D43CAD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B37-B65B-4D62-8C41-5C07546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62C-9789-4F6B-AD4E-C8FC8597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399-AF13-42C9-A450-14B0E04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3CD-1241-458B-B0EC-85CE9DB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880-E69D-49E3-89B7-EE29CBC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6B4-2C29-4149-86E4-A92F0A27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489-278D-4616-A358-BE8E35F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DCC-2D79-4F3F-A334-B0354151C7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1521000"/>
            <a:ext cx="54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ffff"/>
                </a:solidFill>
                <a:latin typeface="Times New Roman"/>
              </a:rPr>
              <a:t>Manipulando las expresi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414828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2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qrt(x^2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27400" y="1881360"/>
            <a:ext cx="428760" cy="32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23652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03560" y="2744640"/>
            <a:ext cx="676440" cy="20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3086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341520" y="3465360"/>
            <a:ext cx="200160" cy="314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62006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s simplificaciones nos siempre son directa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14828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2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qrt(x^2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27400" y="1881360"/>
            <a:ext cx="428760" cy="32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23652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03560" y="2744640"/>
            <a:ext cx="676440" cy="209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3086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2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341520" y="3465360"/>
            <a:ext cx="200160" cy="31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602136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 opci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ic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no considera propiedades de l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57240" y="-6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292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4842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x^(1/x)*(x^(x-1))^(1/x)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54808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8448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0" y="1808280"/>
            <a:ext cx="1428840" cy="695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0" y="2878200"/>
            <a:ext cx="1428840" cy="69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743280" y="4292640"/>
            <a:ext cx="200160" cy="314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520" y="55440"/>
            <a:ext cx="822960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84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305000"/>
            <a:ext cx="59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sqrt(1+sqrt(x-1)*sqrt(x+1)*sqrt(x^2-1)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241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17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11640" y="1736640"/>
            <a:ext cx="20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11640" y="2600280"/>
            <a:ext cx="20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166920" y="3537000"/>
            <a:ext cx="2067120" cy="35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396864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73400" y="4365720"/>
            <a:ext cx="2200320" cy="352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4826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mplify(%, 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995640" y="5307120"/>
            <a:ext cx="171720" cy="20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7280" y="6129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Simplificar expresiones es Maple…es un art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60" y="-2736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9080" y="429264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720" y="1413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ln(2)-ln(7)+exp(a)*exp(b-a)+sin(x)^3+2*cos(x)^2-cos(2*x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3200" y="1916280"/>
            <a:ext cx="3828960" cy="33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2548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l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4720" y="2816280"/>
            <a:ext cx="3381480" cy="44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4720" y="3556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ex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916360" y="3997440"/>
            <a:ext cx="3257280" cy="29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4720" y="4527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tri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629080" y="4941720"/>
            <a:ext cx="339084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920" y="-100080"/>
            <a:ext cx="82296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54500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6653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sqrt(1+sqrt(x-1)*sqrt(x+1)*sqrt(x^2-1)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11640" y="2392200"/>
            <a:ext cx="2066760" cy="352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317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symbo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32000" y="4041720"/>
            <a:ext cx="2200320" cy="352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" y="-49320"/>
            <a:ext cx="822960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mbine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2360" y="443700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55736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ln(2)-ln(7)+exp(a)*exp(b-a)+sin(x)^3+2*cos(x)^2-cos(2*x): 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06840" y="2060640"/>
            <a:ext cx="3828960" cy="333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1640" y="260208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[ln,tri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7004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combine(expr,[ln,exp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4720" y="3068640"/>
            <a:ext cx="2943360" cy="447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952720" y="4186080"/>
            <a:ext cx="280980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00" y="219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rmal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640" y="16048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xpr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^2/(b+a)-b^2/(b-a)+2/c^2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84720" y="2270160"/>
            <a:ext cx="131436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3457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normal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4070520"/>
            <a:ext cx="3219480" cy="61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612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rmal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coloca una expresión bajo la forma de co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43920"/>
            <a:ext cx="660888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llect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00" y="1376280"/>
            <a:ext cx="59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 7*x*y^2+a*x*y^2+3*y^3*x^2-a*y*x^2+4*x+a*y^3*x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67080" y="1890720"/>
            <a:ext cx="3085920" cy="295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6000" y="2333520"/>
            <a:ext cx="18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13160" y="2849400"/>
            <a:ext cx="2990880" cy="29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7520" y="32925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603520" y="3808440"/>
            <a:ext cx="2809800" cy="295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7520" y="42512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522520" y="4767120"/>
            <a:ext cx="2971800" cy="295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0360" y="5210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llect(p,[x,y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735280" y="5726160"/>
            <a:ext cx="275256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-23760"/>
            <a:ext cx="6608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eff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60" y="1484280"/>
            <a:ext cx="59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 7*x*y^2+a*x*y^2+3*y^3*x^2-a*y*x^2+4*x+a*y^3*x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67080" y="2016000"/>
            <a:ext cx="3085920" cy="29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7520" y="254016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520" y="365904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81400" y="3135240"/>
            <a:ext cx="145728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781440" y="42544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7520" y="47782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[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eff(p,y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91080" y="5373720"/>
            <a:ext cx="637920" cy="209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612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eff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selecciona el coeficiente del último arg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45720"/>
            <a:ext cx="68533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expand( )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13372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a+b)^3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22480" y="2530440"/>
            <a:ext cx="1685880" cy="29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312588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a+b)^40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273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EL comand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xpand( )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 desarrolla las operaciones indicada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3280" y="3562200"/>
            <a:ext cx="7381800" cy="24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23336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 (x+y)^2) 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59280" y="1665360"/>
            <a:ext cx="102852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Polinomios aleatori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880" y="22417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40360" y="0"/>
            <a:ext cx="2066760" cy="581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57600" y="2637000"/>
            <a:ext cx="2657520" cy="29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14880" y="3200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14760" y="3500280"/>
            <a:ext cx="2743200" cy="295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6680" y="41608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randpoly(x, degree=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459160" y="4473720"/>
            <a:ext cx="3257280" cy="295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7040" y="512136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p:=randpoly(x, degree=1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430360" y="5589720"/>
            <a:ext cx="331488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valuando expre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0560" y="2133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:=randpoly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96064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x=5, 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35240" y="2529000"/>
            <a:ext cx="2847960" cy="295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392640" y="3213000"/>
            <a:ext cx="533160" cy="209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11280" y="37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x=Pi, 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322360" y="4005360"/>
            <a:ext cx="2676600" cy="30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1280" y="46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%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256360" y="0"/>
            <a:ext cx="1380960" cy="542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182760" y="4941720"/>
            <a:ext cx="952560" cy="2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valuando expre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13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expr:=expand((a-b)^3):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9606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ubs(a*b=u, 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75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lgsubs(a*b=u, 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685880" cy="295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27640" y="0"/>
            <a:ext cx="184788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56000" y="3357720"/>
            <a:ext cx="1685880" cy="295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735280" y="4292640"/>
            <a:ext cx="151452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1466640" cy="447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0400" y="213372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xpr:=expand( (a+b)^9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50920" y="2492280"/>
            <a:ext cx="6591240" cy="29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2200" y="3068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factor( %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24360" y="3392640"/>
            <a:ext cx="628560" cy="295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92200" y="3860640"/>
            <a:ext cx="58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xpr:= x^4-10/21*x^3+419/84*x^2-50/21*x-5/8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48000" y="5343480"/>
            <a:ext cx="194328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91480" y="49244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factor( expr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519280" y="4329000"/>
            <a:ext cx="2571840" cy="447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1466640" cy="44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213372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+2*x-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640" y="3033720"/>
            <a:ext cx="28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-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2200" y="386064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factor(x^2-3, rea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6320" y="4797360"/>
            <a:ext cx="29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73205080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1028520" cy="20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495360" cy="295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627280" y="4400640"/>
            <a:ext cx="2476440" cy="209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304560" cy="23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1200" y="407520"/>
            <a:ext cx="6608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Simplifican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2133720"/>
            <a:ext cx="34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.669924585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640" y="3092400"/>
            <a:ext cx="33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2.279507057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2200" y="406404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047197551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6320" y="5024520"/>
            <a:ext cx="29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identify(1.73205080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18000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76720" y="252900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708360" y="3470400"/>
            <a:ext cx="409680" cy="571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635280" y="460224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600360" y="5711760"/>
            <a:ext cx="304920" cy="238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0320" y="-63360"/>
            <a:ext cx="68533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expand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7628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(a+b)^3 = expand( (a+b)^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35280" y="2205000"/>
            <a:ext cx="2381400" cy="29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997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808080"/>
                </a:solidFill>
                <a:latin typeface="Times New Roman"/>
              </a:rPr>
              <a:t>[&gt;</a:t>
            </a:r>
            <a:r>
              <a:rPr b="0" lang="es-VE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sin(alpha+beta) = expand(sin(alpha+beta)</a:t>
            </a:r>
            <a:r>
              <a:rPr b="0" lang="es-VE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545000"/>
            <a:ext cx="63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cos(alpha+beta) = expand(cos(alpha+beta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92360" y="5337000"/>
            <a:ext cx="2828880" cy="2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6000" y="3860640"/>
            <a:ext cx="2781000" cy="2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62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Podemos escribir ecuaciones conocid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2920" y="-63360"/>
            <a:ext cx="68533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xpand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 )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52100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P:=(x-1)*(x^2-4)*(x+2)^3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46280"/>
            <a:ext cx="64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and(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573360"/>
            <a:ext cx="56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P= expand(P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60680" y="1916280"/>
            <a:ext cx="1971720" cy="29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94120" y="3014640"/>
            <a:ext cx="2905200" cy="29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56360" y="1125360"/>
            <a:ext cx="2413080" cy="1332000"/>
          </a:xfrm>
          <a:prstGeom prst="wedgeRoundRectCallout">
            <a:avLst>
              <a:gd name="adj1" fmla="val -111314"/>
              <a:gd name="adj2" fmla="val -2564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</a:rPr>
              <a:t>Maple no desarrolla automáticamente  las operaciones indicadas en una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6237360"/>
            <a:ext cx="81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Si queremos desarrollarlas debemos indicarlas explíci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43160" y="3997440"/>
            <a:ext cx="465768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7560"/>
            <a:ext cx="68533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mplificando ex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l usuario debe familiarizarse con el uso de estos comand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08280"/>
            <a:ext cx="92538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La expansión en general alarga una expresión y es un proceso autom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A veces queremos hacer lo contrario, simplificar, contraer una expresión larga para hacerla más c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En Maple, la simplificación es más un </a:t>
            </a:r>
            <a:r>
              <a:rPr b="0" i="1" lang="es-ES" sz="2000" spc="-1" strike="noStrike">
                <a:solidFill>
                  <a:srgbClr val="009999"/>
                </a:solidFill>
                <a:latin typeface="Times New Roman"/>
              </a:rPr>
              <a:t>arte</a:t>
            </a: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que un proceso autom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Maple tiene varios comandos para simplificar una expresión: </a:t>
            </a:r>
            <a:br>
              <a:rPr sz="2000"/>
            </a:b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simplify( ), factor( ), combine( ), collect( ), normal( ),</a:t>
            </a:r>
            <a:r>
              <a:rPr b="0" lang="es-ES" sz="2000" spc="-1" strike="noStrike">
                <a:solidFill>
                  <a:srgbClr val="009999"/>
                </a:solidFill>
                <a:latin typeface="Times New Roman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" y="263700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9900"/>
                </a:solidFill>
                <a:latin typeface="Times New Roman"/>
              </a:rPr>
              <a:t>Como indica su nombre es el primer comando que estudiaremos  para simplificar expresion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go muy conoci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1640" y="1413000"/>
            <a:ext cx="44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200" spc="-1" strike="noStrike">
                <a:solidFill>
                  <a:srgbClr val="ff0000"/>
                </a:solidFill>
                <a:latin typeface="Courier New"/>
              </a:rPr>
              <a:t> simplify(sin(x)^2+ cos(x)^2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17960" y="1766880"/>
            <a:ext cx="171360" cy="209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7560"/>
            <a:ext cx="685296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Arial"/>
              </a:rPr>
              <a:t>simplify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237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go no tan sencill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1640" y="1592280"/>
            <a:ext cx="78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cos(x)^5+sin(x)^4+2*cos(x)^2-2*sin(x)^2-cos(2*x))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66960" y="2492280"/>
            <a:ext cx="1409760" cy="29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-63720"/>
            <a:ext cx="82296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implify( )…</a:t>
            </a:r>
            <a:r>
              <a:rPr b="0" lang="es-MX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257720"/>
            <a:ext cx="7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44936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xpr:=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in(x)^2 + ln(2*y) + cos(x)^2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:%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917720"/>
            <a:ext cx="1771560" cy="29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234936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simplify(exp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94040" y="2746440"/>
            <a:ext cx="1095480" cy="209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CyberWar</cp:lastModifiedBy>
  <dcterms:modified xsi:type="dcterms:W3CDTF">2006-10-04T16:54:34Z</dcterms:modified>
  <cp:revision>913</cp:revision>
  <dc:subject/>
  <dc:title>No Slide Title</dc:title>
</cp:coreProperties>
</file>