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3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A20-E47B-4599-931E-0909DF61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66F-2B86-4467-8412-D235A95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E75-822E-4986-A255-835D7182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EA1-42C7-41EF-A555-74C1D0B6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ACB-B045-4FC1-9F46-DF537A2E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434-7812-43CE-9E83-49B5DDD8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D0C8-760F-44DE-B3E2-BACD13A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FD8-6AC4-4DEB-A5E0-9373A2B2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64E-7E9E-418D-9D1E-6EC2904E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5BC0-7837-44AF-87CD-4D0BF498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79AF-89C3-4E9E-8DC6-7C91199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22B-F14A-42DE-BD46-66938D0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46B7-49D2-40D0-AE75-E53768C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CD39-5118-494C-AB03-4AE0499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ED77-603F-4342-8D48-2AF355E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CA1-914B-4946-9941-7304D269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082-0159-4931-B1CF-AE75DB91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292E-B2D1-4BC0-9845-1D6702E3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72BF-7EFD-451F-AC1A-B1155786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3DC4-91B0-47B2-9C98-5F0C98E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E8FC-F0B6-4A8C-872F-96CBF683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0DB1-6DB0-43DF-94F3-AE8D1C2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0DC-D792-4FDE-9D20-F9BEFD04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7254-9269-492E-91BB-45A5E44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6834-BB91-47E6-AAEC-2D8B02A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41C6-1DC4-4112-AE0C-7F4C7536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FA29-33CE-4994-9974-68FA86B1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0DE9-5616-41F0-BECB-3A810EAC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B3CC-5043-47A3-B9E9-AAE764EC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E968-E1F4-4867-B526-7EBCD965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ADE0-FF77-4262-ADA1-4EC2F495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21D7-4F4A-46A3-A25D-360CCC4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2B32-7EBF-4F99-AA88-A1AF6E5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D29-4986-4C72-8206-C992D08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1062-7DA8-422A-83FD-D63F2D1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80D4-CC61-4F3F-8D65-F12C2E1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8C25-A035-4C33-8242-6D10502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6452-A035-4FA5-B2C5-357D592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6955-D03C-45DB-884B-A51C6ECB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AF73-83C1-4F37-A0C9-5C7918D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1DC3-2CB7-40EB-A451-5CC4904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DCBE-1481-47C5-B8FD-D03E6EEC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993A-1554-4944-852F-63AB6146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E1F-1AD4-49EE-B94E-B4A5726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C07-A849-4FCD-88BF-A52E7214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B99-64DD-44C5-83B3-87C36B9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068-2EBB-4EAF-8EA9-5DCD2DB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7F9-0049-4A4E-8DBC-4D129B89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6D5F-DF9E-481A-8949-8558698295C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1828-4A7A-45DA-905A-412CE8C9FF8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049F-6412-4DAA-B66C-83F7970C52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CD6-D5F0-4167-A24F-2E4EE30158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920" y="1808280"/>
            <a:ext cx="900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Cálculo Numéric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con Ma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95280" y="74160"/>
            <a:ext cx="5816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Notas para la escritura de los números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592280"/>
            <a:ext cx="83818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No use ni punto ni coma para representar números gran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Para agrupar números o expresiones numéricas sólo usamos parénte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Para decimales usamos el p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La coma en Maple se usan para separar elementos de una suce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760840" y="87120"/>
            <a:ext cx="522576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Stencil"/>
              </a:rPr>
              <a:t>El cálculo en Maple es exacto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2752560" cy="1123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2920" y="1662120"/>
            <a:ext cx="46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Courier New"/>
              </a:rPr>
              <a:t>2*sqrt(2)+sqrt(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" y="580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scribimos el problema y ejecutam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60840" y="87120"/>
            <a:ext cx="522576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Stencil"/>
              </a:rPr>
              <a:t>El cálculo en Maple es exacto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42920" y="580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La solución es exacta, Maple no usa aproximacion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476680" cy="13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4360" y="139320"/>
            <a:ext cx="754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Stencil"/>
              </a:rPr>
              <a:t>Aproximación de número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353700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2920" y="14842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sin(Pi/2) + 1/5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43280" y="2241720"/>
            <a:ext cx="171360" cy="447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2920" y="3105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%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-13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valf(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3537000"/>
            <a:ext cx="895320" cy="20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2920" y="418464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 Pi+ sqrt(2)+ sqrt(3)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735280" y="4834080"/>
            <a:ext cx="895320" cy="20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63000"/>
            <a:ext cx="754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Stencil"/>
              </a:rPr>
              <a:t>Manejando la precisión numérica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8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195640" y="2023920"/>
            <a:ext cx="895320" cy="209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0500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, 20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6610320" cy="66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472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[200]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6610320" cy="666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2920" y="61102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valf( ) admite otra forma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2920" y="1592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[2000]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6360" y="24573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2133720"/>
            <a:ext cx="669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ff"/>
                </a:solidFill>
                <a:latin typeface="Times New Roman"/>
              </a:rPr>
              <a:t>3.14159265358979323846264338327950288419716939937510582097494459230781640628620899862803482534211706798214808651328230664709384460955058223172535940812848111745028410270193852110555964462294895493038196442881097566593344612847564823378678316527120190914564856692346034861045432664821339360726024914127372458700660631558817488152092096282925409171536436789259036001133053054882046652138414695194151160943305727036575959195309218611738193261179310511854807446237996274956735188575272489122793818301194912983367336244065664308602139494639522473719070217986094370277053921717629317675238467481846766940513200056812714526356082778577134275778960917363717872146844090122495343014654958537105079227968925892354201995611212902196086403441815981362977477130996051870721134999999837297804995105973173281609631859502445945534690830264252230825334468503526193118817101000313783875288658753320838142061717766914730359825349042875546873115956286388235378759375195778185778053217122680661300192787661119590921642019893809525720106548586327886593615338182796823030195203530185296899577362259941389124972177528347913151557485724245415069595082953311686172785588907509838175463746493931925506040092770167113900984882401285836160356370766010471018194295559619894676783744944825537977472684710404753464620804668425906949129331367702898915210475216205696602405803815019351125338243003558764024749647326391419927260426992279678235478163600934172164121992458631503028618297455570674983850549458858692699569092721079750930295532116534498720275596023648066549911988183479775356636980742654252786255181841757467289097777279380008164706001614524919217321721477235014144197356854816136115735255213347574184946843852332390739414333454776241686251898356948556209921922218427255025425688767179049460165346680498862723279178608578438382796797668145410095388378636095068006422512520511739298489608412848862694560424196528502221066118630674427862203919494504712371378696095636437191728746776465757396241389086583264599581339047802759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7680" y="63360"/>
            <a:ext cx="754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Stencil"/>
              </a:rPr>
              <a:t>Manejando la precisión numérica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" y="612936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Maple es exacto,  las aproximaciones  las solicita el usuario explíci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2920" y="1376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6360" y="24573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680" y="63360"/>
            <a:ext cx="754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Stencil"/>
              </a:rPr>
              <a:t>precisión por defecto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2920" y="612936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Por defecto la precisión de Maple es de 10 dig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2000" y="1420920"/>
            <a:ext cx="4619520" cy="771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9600" y="181620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evalf(sqrt(2)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4440" y="1484280"/>
            <a:ext cx="4543560" cy="1162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53960" y="224172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evalf(sqrt(2)+ 1.0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57040" y="1484280"/>
            <a:ext cx="4924440" cy="1533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2640" y="269244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evalf(sin(3)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50482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5697360"/>
            <a:ext cx="7543800" cy="2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ahoma"/>
              </a:rPr>
              <a:t>Digits es una variable interna de Maple, su valor inicial es 10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42920" y="148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Digit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247680" cy="209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42920" y="256536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[&gt;</a:t>
            </a: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Digits:=5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920" y="353700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evalf(P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979640" y="3105000"/>
            <a:ext cx="799920" cy="209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440000" y="4076640"/>
            <a:ext cx="3943080" cy="209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42920" y="4724280"/>
            <a:ext cx="39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Courier New"/>
              </a:rPr>
              <a:t>[&gt;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 1/2+ 1/3+ 1/4 + 0.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547640" y="5157720"/>
            <a:ext cx="3943440" cy="209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327640" y="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La variable Dig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129360"/>
            <a:ext cx="8136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ahoma"/>
              </a:rPr>
              <a:t>Ahora, todos los cálculo en Maple tienen 50 dígitos de pr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411280" y="3429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90" h="21600">
                <a:moveTo>
                  <a:pt x="129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90" h="21600">
                <a:moveTo>
                  <a:pt x="10369" y="8224"/>
                </a:moveTo>
                <a:lnTo>
                  <a:pt x="14233" y="8224"/>
                </a:lnTo>
                <a:lnTo>
                  <a:pt x="14233" y="15221"/>
                </a:lnTo>
                <a:lnTo>
                  <a:pt x="15521" y="15221"/>
                </a:lnTo>
                <a:lnTo>
                  <a:pt x="15521" y="16144"/>
                </a:lnTo>
                <a:lnTo>
                  <a:pt x="10369" y="16144"/>
                </a:lnTo>
                <a:lnTo>
                  <a:pt x="10369" y="15221"/>
                </a:lnTo>
                <a:lnTo>
                  <a:pt x="11657" y="15221"/>
                </a:lnTo>
                <a:lnTo>
                  <a:pt x="11657" y="9129"/>
                </a:lnTo>
                <a:lnTo>
                  <a:pt x="10369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16320" y="63360"/>
            <a:ext cx="262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mas finit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5616360" cy="385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8920" y="1808280"/>
            <a:ext cx="31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 sum( j,  j=1..n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sum(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191040" y="2133720"/>
            <a:ext cx="1180800" cy="5331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58920" y="3105000"/>
            <a:ext cx="31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urier New"/>
              </a:rPr>
              <a:t>[&gt; Sum( j,  j=1..n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548160" y="3429000"/>
            <a:ext cx="46656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58920" y="418464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Sum(j,  j=1..n)= sum(j,  j=1..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925720" y="4508640"/>
            <a:ext cx="1714680" cy="66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58920" y="5373720"/>
            <a:ext cx="50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[&gt; Sum(j,  j=1..n)= factor( sum(j,  j=1..n)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3168720" y="5697360"/>
            <a:ext cx="1228680" cy="6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Stencil"/>
              </a:rPr>
              <a:t>Cálculo Numérico usando Mapl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2920" y="1484280"/>
            <a:ext cx="4838760" cy="3105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591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Objetivos de la le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Stencil"/>
              </a:rPr>
              <a:t>Cálculo Numérico usando Mapl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Próxima sección: operadores matemá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7294680" cy="390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Stencil"/>
              </a:rPr>
              <a:t>Operadores matemátic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erramos la secció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2920" y="1268280"/>
            <a:ext cx="593568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2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Stencil"/>
              </a:rPr>
              <a:t>Operadores matemátic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Próxima sección:  Operaciones matemáticas en Ma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829040" cy="307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l primer problema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172120" cy="38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scribimos la estructura del problema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3390840" cy="1352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69880" y="1954080"/>
            <a:ext cx="18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66"/>
                </a:solidFill>
                <a:latin typeface="Courier New"/>
              </a:rPr>
              <a:t>()/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ompletamos la estructura y ejecutam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3390840" cy="1352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58800" y="1954080"/>
            <a:ext cx="42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66"/>
                </a:solidFill>
                <a:latin typeface="Courier New"/>
              </a:rPr>
              <a:t>(x^2+4)/( 3*x^2-2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1916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66"/>
                </a:solidFill>
                <a:latin typeface="Courier New"/>
              </a:rPr>
              <a:t>()/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6372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Stencil"/>
              </a:rPr>
              <a:t>Operaciones matemáticas en Mapl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MX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66560" y="602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comand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6219720" cy="203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7T12:30:12Z</dcterms:modified>
  <cp:revision>511</cp:revision>
  <dc:subject/>
  <dc:title>No Slide Title</dc:title>
</cp:coreProperties>
</file>