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308-7F38-4401-B59E-2241281C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D89-9947-4444-9DB6-2052EBBA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D06-B0B5-4C0C-96EB-27A263F2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4F1-F4AC-4B21-8212-E5F110F2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0B72-6D90-4EAE-BC8C-5CC8A56D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58E8-69C8-4AB6-9EFA-43A3F4FE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8FA6-C098-4D07-9157-A782834D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7E89-95A9-42CD-8546-7CB7839F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B855-5519-495D-8C86-AE4173BE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7312-E364-4C86-A787-84C787EC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DE9E-8AAB-44E7-A249-CE2479F4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41D-D3B3-4BC7-B42F-80203A3A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B659-596F-4499-9A05-C054E9B5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7F41-AC5B-4D6C-801B-578942B8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4FF2-37F9-48ED-BB79-DEDB15AC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7476-A33B-4176-AC13-C9E95031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FEC6-A5BF-4D0D-914E-746EB206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6EE28-BE7A-4F27-9C4F-BFFEE6A9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A35D-C2DB-4984-9341-8CA4DED4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B97B-D6A2-4FB5-8F76-A08BB106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08696-3FAD-48F6-9AF8-41DA1C1D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2B258-0ABD-4AD1-B9C3-5E528735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DD7-EF26-4B82-9F93-734CAB6F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0800-65EB-48A3-AC63-993BCFFB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01E4C-11A7-4114-A8C5-8E26CF07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554D8-AE4E-4B1A-87AE-BA834C3E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678FA-DE0E-4DDF-97ED-D51C49AE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2EB9-F780-44F3-815C-EA6EA654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111E2-45D2-4069-850B-51A5DA80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83162-49E0-4F33-81D3-A3C9EF25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EA31E-762B-43ED-9964-5E0B5A2F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B4099-93F1-4048-B739-FCDB125F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6135C-280F-45F7-A803-33EF791B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A0B-9D79-4DDA-8402-2ED61BF3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8784A-8482-463A-8226-D6615D57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A5F92-9431-4D85-B96C-D9054695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EE1AA-FA57-4D09-83C8-FAE73BE2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B1AE7-C089-486E-BAC5-7F709103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A033D-F861-4B04-A56A-5158FBA6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40393-F3B8-44A4-9A08-9CD73BD8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5B4BF-F7FD-47A8-B31D-A37E08B9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293B4-5220-4F0D-A355-B7FFC6F0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C6D69-1D8E-4EA6-BADC-D72713C3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032C-324F-4F10-A496-136212AC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C58-552D-4E3E-B737-6E7520C7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5D8-BDE6-4A53-81B3-4C839BA4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3CA-955E-4642-908D-1ACCD2AE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374-9F11-4C15-920D-EB890066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4671-6992-44E1-8AD4-0F21B798865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E20D-8449-4C43-A9FA-CADE54BE738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3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8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2B82-F904-4DAC-A51D-952C6F19865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38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39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4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A271-CA74-45B7-B3C6-85DF0711FEA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C:\Archivos de programa\Maple 10\bin.win\cwmaple.exe" TargetMode="External"/><Relationship Id="rId3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16000" y="0"/>
            <a:ext cx="802800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ffff"/>
                </a:solidFill>
                <a:latin typeface="Times New Roman"/>
              </a:rPr>
              <a:t>Abriendo el program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Times New Roman"/>
              </a:rPr>
              <a:t>Ma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91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uscamos el logo del programa  en el escritorio de trabaj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920" y="5589360"/>
            <a:ext cx="82087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ahoma"/>
              </a:rPr>
              <a:t>Colocamos el punto y coma al final del comando y ejecutamos nuevamente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924360" y="3753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27280" y="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mpletamos el 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2920" y="1700280"/>
            <a:ext cx="209520" cy="237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66560" y="1592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2*(33+4/5)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6560" y="224172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Warning, premature end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1592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166920" y="2241720"/>
            <a:ext cx="43812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83920" y="49320"/>
            <a:ext cx="564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Bloque de comandos..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2920" y="1419120"/>
            <a:ext cx="5811840" cy="2009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591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Cuando ejecutamos un bloque se ejecutan todos  los com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84080" y="185760"/>
            <a:ext cx="54435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Bloque de comandos..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5688000" y="48340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Tres comando diferentes que se comportan como un comando, al ejecutarlo se ejecutan los tr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42920" y="1376280"/>
            <a:ext cx="5715000" cy="39434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66560" y="2241720"/>
            <a:ext cx="5510520" cy="1079280"/>
          </a:xfrm>
          <a:prstGeom prst="rect">
            <a:avLst/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9640" y="37800"/>
            <a:ext cx="65912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truyendo un bloque...</a:t>
            </a:r>
            <a:r>
              <a:rPr b="1" lang="es-MX" sz="4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440160" y="287028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1800" y="146700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2*(33+4/5)-8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92520" y="1467000"/>
            <a:ext cx="2700360" cy="431640"/>
          </a:xfrm>
          <a:prstGeom prst="leftArrow">
            <a:avLst>
              <a:gd name="adj1" fmla="val 50000"/>
              <a:gd name="adj2" fmla="val 156401"/>
            </a:avLst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hift+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58920" y="1514520"/>
            <a:ext cx="2305080" cy="600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332160" y="1682640"/>
            <a:ext cx="2700360" cy="432000"/>
          </a:xfrm>
          <a:prstGeom prst="leftArrow">
            <a:avLst>
              <a:gd name="adj1" fmla="val 50000"/>
              <a:gd name="adj2" fmla="val 156271"/>
            </a:avLst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hift+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0360" y="1790640"/>
            <a:ext cx="3997080" cy="324000"/>
          </a:xfrm>
          <a:prstGeom prst="rect">
            <a:avLst/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Abre una nueva línea de com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800" y="179064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32*(1+1/4+1/5)-1/3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71520" y="1574640"/>
            <a:ext cx="3219480" cy="895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31800" y="2114640"/>
            <a:ext cx="3997440" cy="323640"/>
          </a:xfrm>
          <a:prstGeom prst="rect">
            <a:avLst/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Abre una nueva línea de com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1800" y="2114640"/>
            <a:ext cx="38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1/2+1/3+1/4+1/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84120" y="1467000"/>
            <a:ext cx="3971880" cy="3257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358920" y="1484280"/>
            <a:ext cx="247680" cy="266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951280" y="5697360"/>
            <a:ext cx="55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Ejecutamos el bloq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19200" y="125280"/>
            <a:ext cx="469908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rabajando con secciones…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95120" y="1268280"/>
            <a:ext cx="7724880" cy="39625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816360" y="4724280"/>
            <a:ext cx="3564000" cy="1081080"/>
          </a:xfrm>
          <a:prstGeom prst="wedgeRoundRectCallout">
            <a:avLst>
              <a:gd name="adj1" fmla="val -127685"/>
              <a:gd name="adj2" fmla="val -90967"/>
              <a:gd name="adj3" fmla="val 16667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00"/>
                </a:solidFill>
                <a:latin typeface="Times New Roman"/>
              </a:rPr>
              <a:t>Cuando encuentre # al final de una sección indica que debe cerrarla para contin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920" y="1330200"/>
            <a:ext cx="1076400" cy="1019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003640" y="728640"/>
            <a:ext cx="432000" cy="647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569736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Dando clic, se crea una nueva sección en la línea que contiene el curso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5003640" y="728640"/>
            <a:ext cx="432000" cy="647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4920" y="1301760"/>
            <a:ext cx="1514520" cy="13716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reo líneas de comando para la nueva secció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reo líneas de comando para la secció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48000" y="728640"/>
            <a:ext cx="32400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0480" y="1301760"/>
            <a:ext cx="1514160" cy="1371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4920" y="1317600"/>
            <a:ext cx="1209600" cy="22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Al final, coloco el numeral, </a:t>
            </a:r>
            <a:r>
              <a:rPr b="0" lang="es-VE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, para indicar fin de la s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0480" y="1301760"/>
            <a:ext cx="1514160" cy="1371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4920" y="1317600"/>
            <a:ext cx="1209600" cy="22194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66560" y="2997360"/>
            <a:ext cx="181080" cy="19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crear un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olocamos el nombre de la s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0480" y="1301760"/>
            <a:ext cx="1514160" cy="13716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4920" y="1317600"/>
            <a:ext cx="1209600" cy="2219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66560" y="2997360"/>
            <a:ext cx="181080" cy="199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12760" y="17319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66"/>
                </a:solidFill>
                <a:latin typeface="Times New Roman"/>
              </a:rPr>
              <a:t>Nombre de la 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95640" y="1700280"/>
            <a:ext cx="49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Times New Roman"/>
              </a:rPr>
              <a:t>La ventana </a:t>
            </a:r>
            <a:br>
              <a:rPr sz="7200"/>
            </a:br>
            <a:r>
              <a:rPr b="0" lang="es-ES" sz="7200" spc="-1" strike="noStrike">
                <a:solidFill>
                  <a:srgbClr val="ffffff"/>
                </a:solidFill>
                <a:latin typeface="Times New Roman"/>
              </a:rPr>
              <a:t>de trabajo en Ma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1376280"/>
            <a:ext cx="900000" cy="865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1440" y="1228680"/>
            <a:ext cx="59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Berlin Sans FB"/>
              </a:rPr>
              <a:t>Ubicamos el logo de Ma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56800" y="4616280"/>
            <a:ext cx="61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Berlin Sans FB"/>
              </a:rPr>
              <a:t>Para abrir, doble clic al lo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2"/>
          </p:cNvPr>
          <p:cNvSpPr/>
          <p:nvPr/>
        </p:nvSpPr>
        <p:spPr>
          <a:xfrm>
            <a:off x="0" y="1484280"/>
            <a:ext cx="900000" cy="649440"/>
          </a:xfrm>
          <a:custGeom>
            <a:avLst/>
            <a:gdLst>
              <a:gd name="textAreaLeft" fmla="*/ 41760 w 900000"/>
              <a:gd name="textAreaRight" fmla="*/ 858240 w 900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9929" h="21600">
                <a:moveTo>
                  <a:pt x="0" y="0"/>
                </a:moveTo>
                <a:lnTo>
                  <a:pt x="29929" y="0"/>
                </a:lnTo>
                <a:lnTo>
                  <a:pt x="29929" y="21600"/>
                </a:lnTo>
                <a:lnTo>
                  <a:pt x="0" y="21600"/>
                </a:lnTo>
                <a:close/>
              </a:path>
              <a:path fill="lightenLess" w="29929" h="21600">
                <a:moveTo>
                  <a:pt x="0" y="0"/>
                </a:moveTo>
                <a:lnTo>
                  <a:pt x="29929" y="0"/>
                </a:lnTo>
                <a:lnTo>
                  <a:pt x="28529" y="1400"/>
                </a:lnTo>
                <a:lnTo>
                  <a:pt x="1400" y="1400"/>
                </a:lnTo>
                <a:close/>
              </a:path>
              <a:path fill="darken" w="29929" h="21600">
                <a:moveTo>
                  <a:pt x="29929" y="0"/>
                </a:moveTo>
                <a:lnTo>
                  <a:pt x="29929" y="21600"/>
                </a:lnTo>
                <a:lnTo>
                  <a:pt x="28529" y="20200"/>
                </a:lnTo>
                <a:lnTo>
                  <a:pt x="28529" y="1400"/>
                </a:lnTo>
                <a:close/>
              </a:path>
              <a:path fill="darkenLess" w="29929" h="21600">
                <a:moveTo>
                  <a:pt x="29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29" y="20200"/>
                </a:lnTo>
                <a:close/>
              </a:path>
              <a:path fill="lighten" w="29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rrando l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lic en la cabecer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0480" y="1301760"/>
            <a:ext cx="1514160" cy="1371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34920" y="1317600"/>
            <a:ext cx="1209600" cy="22194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66560" y="2997360"/>
            <a:ext cx="181080" cy="199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12760" y="17319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66"/>
                </a:solidFill>
                <a:latin typeface="Times New Roman"/>
              </a:rPr>
              <a:t>Nombre de la 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88920" y="1700280"/>
            <a:ext cx="432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24280" y="114120"/>
            <a:ext cx="50608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rrando la sección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142920" y="60213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Clic en la cabecer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560" y="173196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66"/>
                </a:solidFill>
                <a:latin typeface="Times New Roman"/>
              </a:rPr>
              <a:t>Nombre de la 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51000" y="1808280"/>
            <a:ext cx="33336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655280" y="0"/>
            <a:ext cx="638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Referenciando los valores ya calculados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2565360"/>
            <a:ext cx="55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66"/>
                </a:solidFill>
                <a:latin typeface="Times New Roman"/>
              </a:rPr>
              <a:t>Último valor:  %,  </a:t>
            </a:r>
            <a:br>
              <a:rPr sz="3200"/>
            </a:br>
            <a:r>
              <a:rPr b="1" lang="es-MX" sz="3200" spc="-1" strike="noStrike">
                <a:solidFill>
                  <a:srgbClr val="ff0066"/>
                </a:solidFill>
                <a:latin typeface="Times New Roman"/>
              </a:rPr>
              <a:t>penúltimo:  %%,  </a:t>
            </a:r>
            <a:br>
              <a:rPr sz="3200"/>
            </a:br>
            <a:r>
              <a:rPr b="1" lang="es-MX" sz="3200" spc="-1" strike="noStrike">
                <a:solidFill>
                  <a:srgbClr val="ff0066"/>
                </a:solidFill>
                <a:latin typeface="Times New Roman"/>
              </a:rPr>
              <a:t>antepenúltimo:  %%%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2920" y="36360"/>
            <a:ext cx="14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t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303640" y="36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%  ,    %%,  %%%,  %%%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9200" y="1268280"/>
            <a:ext cx="1333800" cy="10382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0" y="612936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jecutamos el bloque de comando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2303640" y="36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%  ,    %%,  %%%,  %%%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3360" y="1268280"/>
            <a:ext cx="5477040" cy="2428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07800" y="2603520"/>
            <a:ext cx="14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0000"/>
                </a:solidFill>
                <a:latin typeface="Courier New"/>
              </a:rPr>
              <a:t>%-%%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021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jecutamos el coman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2303640" y="36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%  ,    %%,  %%%,  %%%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9200" y="1268280"/>
            <a:ext cx="5448600" cy="2686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07800" y="3060720"/>
            <a:ext cx="11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0000"/>
                </a:solidFill>
                <a:latin typeface="Courier New"/>
              </a:rPr>
              <a:t>%-%%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2920" y="6021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Ejecutamo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2303640" y="36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%  ,    %%,  %%%,  %%%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9200" y="1293840"/>
            <a:ext cx="5295960" cy="2886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42920" y="526572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¿Qué valor tiene %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2920" y="580536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9900"/>
                </a:solidFill>
                <a:latin typeface="Times New Roman"/>
              </a:rPr>
              <a:t>¿Qué valor tiene %%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55640" y="3212640"/>
            <a:ext cx="52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final del tutorial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4920" y="1592280"/>
            <a:ext cx="433440" cy="376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600360" y="-12852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Ventana de trabaj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4920" y="2457360"/>
            <a:ext cx="433440" cy="376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4920" y="148428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[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ller: Laboratorio de Matemátic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[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artamento de Matemática. Facultad de Ciencias. ULA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00360" y="-135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2 tipos de lín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241452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0000"/>
                </a:solidFill>
                <a:latin typeface="Courier New"/>
              </a:rPr>
              <a:t>1/3 + 1/5 + 1/6 + 1/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4920" y="2457360"/>
            <a:ext cx="433440" cy="376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4920" y="148428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[ Taller: Laboratorio de Matemátic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[ Departamento de Matemática. Facultad de Ciencias. 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55640" y="-135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Creando líneas de coma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241452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0000"/>
                </a:solidFill>
                <a:latin typeface="Courier New"/>
              </a:rPr>
              <a:t>1/3 + 1/5 + 1/6 + 1/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71640" y="24573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6360" y="29973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urier New"/>
              </a:rPr>
              <a:t>1/2 + 1/3+1/4+1/5+1/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38440" y="3336840"/>
            <a:ext cx="587520" cy="1063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140360" y="728640"/>
            <a:ext cx="541080" cy="539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8160" y="2997360"/>
            <a:ext cx="433440" cy="384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6560" y="5913360"/>
            <a:ext cx="70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ff"/>
                </a:solidFill>
                <a:latin typeface="Times New Roman"/>
              </a:rPr>
              <a:t>Pulsando la tecla &lt;Enter&gt; ejecutamos el com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95280" y="63000"/>
            <a:ext cx="583236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reando una línea de texto.</a:t>
            </a:r>
            <a:r>
              <a:rPr b="1" lang="es-MX" sz="3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871640" y="24573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55640" y="2565000"/>
            <a:ext cx="0" cy="18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217440" y="16239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99"/>
                </a:solidFill>
                <a:latin typeface="Times New Roman"/>
              </a:rPr>
              <a:t>[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80" y="170028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[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0080" y="1604880"/>
            <a:ext cx="539640" cy="725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50920" y="1700280"/>
            <a:ext cx="61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ociendo el programa Ma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49560" y="785880"/>
            <a:ext cx="324000" cy="5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5589720"/>
            <a:ext cx="78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9900"/>
                </a:solidFill>
                <a:latin typeface="Times New Roman"/>
              </a:rPr>
              <a:t>Clic en el botón : la línea de comando se transforma en línea de text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6056280"/>
            <a:ext cx="78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9900"/>
                </a:solidFill>
                <a:latin typeface="Times New Roman"/>
              </a:rPr>
              <a:t>Las líneas de textos se identifican por el color negro del tex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32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9640" y="0"/>
            <a:ext cx="6591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cribiendo un comando...</a:t>
            </a:r>
            <a:r>
              <a:rPr b="1" lang="es-MX" sz="4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924360" y="3753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2920" y="4184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Times New Roman"/>
              </a:rPr>
              <a:t>Todo comando debe finalizar con punto y c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8200" y="154152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2*(33+4/5)-8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2920" y="1484280"/>
            <a:ext cx="504720" cy="399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087640" y="1916280"/>
            <a:ext cx="438120" cy="666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42920" y="4724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Times New Roman"/>
              </a:rPr>
              <a:t>Pulsando &lt;Enter&gt; se ejecuta nuestro com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2920" y="53737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Las líneas de texto se identifican por el color rojo al escrib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3752640"/>
            <a:ext cx="82090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i no colocamos el punto y coma al final del comando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924360" y="3753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5265720"/>
            <a:ext cx="61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Script MT Bold"/>
              </a:rPr>
              <a:t>Un mensaje de Maple nos informa que el comando está in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88000" y="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Qué p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2920" y="1700280"/>
            <a:ext cx="209520" cy="237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6560" y="1592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2*(33+4/5)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6560" y="224172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Warning, premature end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2920" y="4400640"/>
            <a:ext cx="82090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in completar el comando lo ejecutamos, pulsamos “Enter”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12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5697360"/>
            <a:ext cx="820872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ahoma"/>
              </a:rPr>
              <a:t>Colocamos el punto y coma al final del comando y ejecutamos nuevamente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3753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7280" y="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mpletamos el 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2920" y="1700280"/>
            <a:ext cx="209520" cy="2379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66560" y="1592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2*(33+4/5)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6560" y="224172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Warning, premature end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1592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9:58:59Z</dcterms:created>
  <dc:creator>Michael Stuart</dc:creator>
  <dc:description/>
  <dc:language>en-US</dc:language>
  <cp:lastModifiedBy>Aristides</cp:lastModifiedBy>
  <dcterms:modified xsi:type="dcterms:W3CDTF">2006-09-27T12:49:44Z</dcterms:modified>
  <cp:revision>675</cp:revision>
  <dc:subject/>
  <dc:title>No Slide Title</dc:title>
</cp:coreProperties>
</file>