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C4A-D296-4A19-8B19-81374FC1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469-29CD-4887-9D3F-07546B9A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53C-44F7-45B3-B060-C19273E3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DA7-91B9-4E43-B286-EC151F6C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78F1-AC20-42DA-B70C-B5AFADF3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49CF-2BD5-4169-B1DF-2BB5776B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920B-1751-43A0-8019-405D4541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FFD0-E05B-434A-8C8D-B3A715CB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4017-93AB-442E-B765-152DAFDE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6938-3837-4509-B9A9-CCF2BF91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A6B8-61CD-4FB0-8B17-72B9234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4EF-484C-4BE6-A16C-42D42534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7575-CA22-4202-8799-7A795BFA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2F24-9E74-4008-8AC8-9D761B51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4BC5-AFC4-4C4C-BA3E-9499BC51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0501-60FA-4FB9-9A26-2A9160C7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3933-EC36-4E21-B387-02EBDF6A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DA43-45EB-4115-9DD7-3D10FA9D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2B02-9195-40F6-B6D6-BC8416E5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D008-D209-41B8-BA5C-B8EEE989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5539-CBDA-4DD9-A4D3-0B698126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639D-5B81-437F-B36C-57EB1384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DF1-5467-4D0C-AFD4-8FE6B5D5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50DE-F5AB-4438-8332-3D8A931B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9554-CFA5-4C0C-9A84-D047B40B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ED78-5C20-4C7A-B06A-541ED97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7AA3-EB07-4086-A097-044473EC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516A-07BD-45AF-886F-E1B9B75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86B4-BC0B-48EF-A170-423B14FD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5C4B-5384-4944-B224-1CAE5FB2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DB6E-DB9F-4731-9221-AD177DEB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8773D-AABB-435D-A2B3-BC53312D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9228E-718A-48B7-B9AC-701D6204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E09-D666-4A00-A252-C59D93EB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1337A-4589-4A73-9166-964FA638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47825-8B15-4818-86F8-FEA1F5A4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80F8-3EBA-4A75-9559-F46157CE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723B-D650-4CD4-8291-69B114C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7C102-39A4-4017-981D-8E8AE177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5B1EC-F4D9-4455-AC53-E322EC02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F49E-606D-4E75-AF59-73C70D17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913A7-05A1-4242-9D02-5B536E37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1FF71-078C-4180-8A05-49B36489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DCC-EBC7-40BB-BA9D-933C4411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DC2-44B3-4040-929D-FEBBBF0C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D34-27A7-4050-BD28-98CF9ABF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891-763D-4514-AB5E-7D754037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4F9-7DD3-44B4-95D6-59BA3FF5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CD5-5997-4043-A7F8-5D7856FCFF3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B0CD-14BF-4E9F-BD0A-FEA8E71F079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3998-0B18-4C34-87D8-FA824699E05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965-F047-48C3-A76F-146A19B7C9B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C:\Archivos de programa\Maple 10\bin.win\cwmaple.exe" TargetMode="External"/><Relationship Id="rId3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16000" y="0"/>
            <a:ext cx="802800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Times New Roman"/>
              </a:rPr>
              <a:t>Abriendo el program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Ma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91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uscamos el logo del programa  en el escritorio de trabaj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920" y="5589360"/>
            <a:ext cx="82087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ahoma"/>
              </a:rPr>
              <a:t>Colocamos el punto y coma al final del comando y ejecutamos nuevament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7280" y="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pletamos el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1592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166920" y="2241720"/>
            <a:ext cx="43812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83920" y="49320"/>
            <a:ext cx="564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Bloque de comandos..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2920" y="1419120"/>
            <a:ext cx="5811840" cy="2009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591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Cuando ejecutamos un bloque se ejecutan todos  los com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84080" y="185760"/>
            <a:ext cx="5443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Bloque de comandos..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5688000" y="48340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Tres comando diferentes que se comportan como un comando, al ejecutarlo se ejecutan los tr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5715000" cy="3943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66560" y="2241720"/>
            <a:ext cx="5510520" cy="107928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9640" y="37800"/>
            <a:ext cx="659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truyendo un bloque..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440160" y="287028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1800" y="146700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2520" y="1467000"/>
            <a:ext cx="2700360" cy="431640"/>
          </a:xfrm>
          <a:prstGeom prst="leftArrow">
            <a:avLst>
              <a:gd name="adj1" fmla="val 50000"/>
              <a:gd name="adj2" fmla="val 156401"/>
            </a:avLst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hift+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58920" y="1514520"/>
            <a:ext cx="2305080" cy="60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332160" y="1682640"/>
            <a:ext cx="2700360" cy="432000"/>
          </a:xfrm>
          <a:prstGeom prst="leftArrow">
            <a:avLst>
              <a:gd name="adj1" fmla="val 50000"/>
              <a:gd name="adj2" fmla="val 156271"/>
            </a:avLst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hift+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0360" y="1790640"/>
            <a:ext cx="3997080" cy="32400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Abre una nueva línea de com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800" y="179064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32*(1+1/4+1/5)-1/3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71520" y="1574640"/>
            <a:ext cx="3219480" cy="895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31800" y="2114640"/>
            <a:ext cx="3997440" cy="32364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Abre una nueva línea de com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1800" y="211464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1/2+1/3+1/4+1/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84120" y="1467000"/>
            <a:ext cx="3971880" cy="3257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358920" y="1484280"/>
            <a:ext cx="247680" cy="266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951280" y="5697360"/>
            <a:ext cx="55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Ejecutamos el blo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19200" y="125280"/>
            <a:ext cx="46990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bajando con secciones…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95120" y="1268280"/>
            <a:ext cx="7724880" cy="39625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16360" y="4724280"/>
            <a:ext cx="3564000" cy="1081080"/>
          </a:xfrm>
          <a:prstGeom prst="wedgeRoundRectCallout">
            <a:avLst>
              <a:gd name="adj1" fmla="val -127685"/>
              <a:gd name="adj2" fmla="val -90967"/>
              <a:gd name="adj3" fmla="val 16667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Cuando encuentre # al final de una sección indica que debe cerrarla para contin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1330200"/>
            <a:ext cx="1076400" cy="1019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03640" y="728640"/>
            <a:ext cx="432000" cy="647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69736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Dando clic, se crea una nueva sección en la línea que contiene el curs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003640" y="728640"/>
            <a:ext cx="432000" cy="647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4920" y="1301760"/>
            <a:ext cx="1514520" cy="1371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reo líneas de comando para la nueva sec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reo líneas de comando para la sec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48000" y="728640"/>
            <a:ext cx="324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Al final, coloco el numeral, </a:t>
            </a:r>
            <a:r>
              <a:rPr b="0" lang="es-VE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, para indicar fin de la s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olocamos el nombre de la s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12760" y="17319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95640" y="1700280"/>
            <a:ext cx="49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La ventana </a:t>
            </a:r>
            <a:br>
              <a:rPr sz="7200"/>
            </a:b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de trabajo en Ma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376280"/>
            <a:ext cx="900000" cy="86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440" y="1228680"/>
            <a:ext cx="59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Berlin Sans FB"/>
              </a:rPr>
              <a:t>Ubicamos el logo de Ma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56800" y="4616280"/>
            <a:ext cx="61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Berlin Sans FB"/>
              </a:rPr>
              <a:t>Para abrir, doble clic al lo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2"/>
          </p:cNvPr>
          <p:cNvSpPr/>
          <p:nvPr/>
        </p:nvSpPr>
        <p:spPr>
          <a:xfrm>
            <a:off x="0" y="1484280"/>
            <a:ext cx="900000" cy="649440"/>
          </a:xfrm>
          <a:custGeom>
            <a:avLst/>
            <a:gdLst>
              <a:gd name="textAreaLeft" fmla="*/ 41760 w 900000"/>
              <a:gd name="textAreaRight" fmla="*/ 858240 w 900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9929" h="21600">
                <a:moveTo>
                  <a:pt x="0" y="0"/>
                </a:moveTo>
                <a:lnTo>
                  <a:pt x="29929" y="0"/>
                </a:lnTo>
                <a:lnTo>
                  <a:pt x="29929" y="21600"/>
                </a:lnTo>
                <a:lnTo>
                  <a:pt x="0" y="21600"/>
                </a:lnTo>
                <a:close/>
              </a:path>
              <a:path fill="lightenLess" w="29929" h="21600">
                <a:moveTo>
                  <a:pt x="0" y="0"/>
                </a:moveTo>
                <a:lnTo>
                  <a:pt x="29929" y="0"/>
                </a:lnTo>
                <a:lnTo>
                  <a:pt x="28529" y="1400"/>
                </a:lnTo>
                <a:lnTo>
                  <a:pt x="1400" y="1400"/>
                </a:lnTo>
                <a:close/>
              </a:path>
              <a:path fill="darken" w="29929" h="21600">
                <a:moveTo>
                  <a:pt x="29929" y="0"/>
                </a:moveTo>
                <a:lnTo>
                  <a:pt x="29929" y="21600"/>
                </a:lnTo>
                <a:lnTo>
                  <a:pt x="28529" y="20200"/>
                </a:lnTo>
                <a:lnTo>
                  <a:pt x="28529" y="1400"/>
                </a:lnTo>
                <a:close/>
              </a:path>
              <a:path fill="darkenLess" w="29929" h="21600">
                <a:moveTo>
                  <a:pt x="29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29" y="20200"/>
                </a:lnTo>
                <a:close/>
              </a:path>
              <a:path fill="lighten" w="29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rrando l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lic en la cabecer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2760" y="17319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88920" y="1700280"/>
            <a:ext cx="432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rrando l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lic en la cabecer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560" y="173196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51000" y="1808280"/>
            <a:ext cx="33336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655280" y="0"/>
            <a:ext cx="638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Referenciando los valores ya calculados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2565360"/>
            <a:ext cx="55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Último valor:  %,  </a:t>
            </a:r>
            <a:br>
              <a:rPr sz="3200"/>
            </a:b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penúltimo:  %%,  </a:t>
            </a:r>
            <a:br>
              <a:rPr sz="3200"/>
            </a:b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antepenúltimo:  %%%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2920" y="3636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t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9200" y="1268280"/>
            <a:ext cx="1333800" cy="10382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612936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 el bloque de comando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3360" y="1268280"/>
            <a:ext cx="5477040" cy="2428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07800" y="2603520"/>
            <a:ext cx="14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0000"/>
                </a:solidFill>
                <a:latin typeface="Courier New"/>
              </a:rPr>
              <a:t>%-%%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02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 el coman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9200" y="1268280"/>
            <a:ext cx="5448600" cy="2686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07800" y="3060720"/>
            <a:ext cx="11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0000"/>
                </a:solidFill>
                <a:latin typeface="Courier New"/>
              </a:rPr>
              <a:t>%-%%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2920" y="6021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9200" y="1293840"/>
            <a:ext cx="5295960" cy="2886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42920" y="526572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¿Qué valor tiene 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2920" y="5805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¿Qué valor tiene %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55640" y="3212640"/>
            <a:ext cx="52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final del tutorial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920" y="159228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600360" y="-12852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Ventana de trabaj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920" y="245736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4920" y="14842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er: Laboratorio de Matemáti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artamento de Matemática. Facultad de Ciencias. ULA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00360" y="-135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2 tipos de lín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41452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0000"/>
                </a:solidFill>
                <a:latin typeface="Courier New"/>
              </a:rPr>
              <a:t>1/3 + 1/5 + 1/6 + 1/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4920" y="245736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4920" y="14842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Taller: Laboratorio de Matemáti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Departamento de Matemática. Facultad de Ciencias. 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55640" y="-135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Creando líneas de com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241452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0000"/>
                </a:solidFill>
                <a:latin typeface="Courier New"/>
              </a:rPr>
              <a:t>1/3 + 1/5 + 1/6 + 1/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71640" y="24573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6360" y="29973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1/2 + 1/3+1/4+1/5+1/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38440" y="3336840"/>
            <a:ext cx="587520" cy="1063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40360" y="728640"/>
            <a:ext cx="541080" cy="53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160" y="2997360"/>
            <a:ext cx="433440" cy="384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6560" y="591336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ff"/>
                </a:solidFill>
                <a:latin typeface="Times New Roman"/>
              </a:rPr>
              <a:t>Pulsando la tecla &lt;Enter&gt; ejecutamos el com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95280" y="63000"/>
            <a:ext cx="58323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reando una línea de texto.</a:t>
            </a:r>
            <a:r>
              <a:rPr b="1" lang="es-MX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871640" y="24573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55640" y="2565000"/>
            <a:ext cx="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217440" y="16239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99"/>
                </a:solidFill>
                <a:latin typeface="Times New Roman"/>
              </a:rPr>
              <a:t>[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80" y="17002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[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0080" y="1604880"/>
            <a:ext cx="539640" cy="725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0920" y="170028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ociendo el programa Ma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49560" y="785880"/>
            <a:ext cx="324000" cy="5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58972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imes New Roman"/>
              </a:rPr>
              <a:t>Clic en el botón : la línea de comando se transforma en línea de text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605628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imes New Roman"/>
              </a:rPr>
              <a:t>Las líneas de textos se identifican por el color negro del tex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32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9640" y="0"/>
            <a:ext cx="6591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cribiendo un comando..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2920" y="4184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Times New Roman"/>
              </a:rPr>
              <a:t>Todo comando debe finalizar con punto y c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8200" y="154152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2*(33+4/5)-8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2920" y="1484280"/>
            <a:ext cx="504720" cy="399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087640" y="1916280"/>
            <a:ext cx="438120" cy="666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42920" y="4724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Times New Roman"/>
              </a:rPr>
              <a:t>Pulsando &lt;Enter&gt; se ejecuta nuestro com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2920" y="5373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Las líneas de texto se identifican por el color rojo al escri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3752640"/>
            <a:ext cx="82090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i no colocamos el punto y coma al final del comando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526572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Script MT Bold"/>
              </a:rPr>
              <a:t>Un mensaje de Maple nos informa que el comando está in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é p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2920" y="4400640"/>
            <a:ext cx="8209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in completar el comando lo ejecutamos, pulsamos “Enter”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12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5697360"/>
            <a:ext cx="820872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ahoma"/>
              </a:rPr>
              <a:t>Colocamos el punto y coma al final del comando y ejecutamos nuevamente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7280" y="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pletamos el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1592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Aristides</cp:lastModifiedBy>
  <dcterms:modified xsi:type="dcterms:W3CDTF">2006-09-27T12:49:44Z</dcterms:modified>
  <cp:revision>675</cp:revision>
  <dc:subject/>
  <dc:title>No Slide Title</dc:title>
</cp:coreProperties>
</file>