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4CD-7051-42F6-A805-A73AD567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4B4-AB04-4CD6-8B71-8E08CA15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863-15C8-4068-80FF-C3559D8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B2B-24A4-490C-90B6-CD7BA1F8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2BC3-F508-4F31-9D45-4BC65361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86D4-71B0-46D0-B2FA-A712B8B3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9B54-6639-43AB-BBA3-9A3288B9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E2D6-5203-4011-8BC3-5107D9B6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84FA-13AC-4737-9ED1-4EDC4B0D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8DED-E23A-47ED-BA13-80B82EC6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19B7-41F4-4F95-B37C-B7B7376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F3B-5650-443C-8897-8B7D1E4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5402-B714-4E8E-8ED9-EA936B0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68C2-79A1-486B-9767-33815BE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BDF4-072F-4A50-A2F4-AF5C5FCA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14C0-FE04-4D81-B1E7-EF979307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359A-88A8-4934-A84C-E90B76EA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69BC-ABAE-4387-8E6E-EF9EC134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BDEC-0B47-4A27-A8F3-8C59810B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DFA8-4D65-4E6E-BCC9-4E6F835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A966-7F76-4115-9EFF-A1B1BEC2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274A-0A4B-4498-851F-4FD0358F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4E1-7077-4713-AC3B-F1F21681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AC6C-A41A-45C5-A8C6-084792AA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7A01-632E-49B1-B8A8-DCF9D56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B668-A008-48D4-9AA4-0A6F052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9CA8-1C06-494A-B9A5-281F1FB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5B55-5073-409E-8DE5-88C2E84E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3E7D-87CD-48D1-BB88-6AD0EDFE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7DA5-F803-4E01-BB6B-CFDC4A0F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A95E-A8C5-4969-A8A4-9F618A52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739D-FB59-466B-A0F2-E91D442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4820-A154-403A-8274-018E8B7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269-C592-4E12-B96C-2EA4B1A5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4985-D931-4529-8C08-C7405ED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B8F9-6CA0-43CF-9469-FE181AFF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40BFA-4421-495F-96C1-1991B928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4EFE-84DF-48B5-8636-32CB023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CB57-7581-473F-A074-4536C47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B5BA-D972-49C9-8FAF-513DFAF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90662-557C-458E-BCA7-3A709DEF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BDB4-101B-4068-A9A9-498E21A6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F43F-A34D-4EEF-AA2E-B7F13144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94C5-C81A-4F08-AA9D-1C0FF2F8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D25-B2DD-4C8A-82C7-62376FE3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8D58-668E-40D3-98C2-E3ADB775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9964-275D-42F6-B5F2-B19E2DC9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065E-DD0C-4D3A-ADE2-D0762679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0AF7-D93A-4226-A29B-4A398539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3B94E-9557-4389-92E1-5EBE2447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6C4F-AA68-484B-BF31-37AABAE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693E-3BFD-4549-9C8C-386B0E10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5DF5-4A38-42FA-AEDF-9950BFD1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611F1-1F88-4B6C-A2D7-8F7997D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4E39-D6B8-4F00-81CB-6CF5AA6D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E6E-070B-49C2-968D-598B335A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2BB78-4213-45B6-B8E3-1E78463E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C19-B1F4-455A-925C-5BB6DA85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95B-A1F0-4D5E-9FA2-6D0B9F7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363-EE62-4930-8C73-AF7B7E37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FBF-76F5-4211-9E22-402C7E12991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D5C-4010-4091-AB78-EEE3E8A3893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E5EE-59B1-4891-826A-84D3079CB7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019-F055-4051-8F3A-3607CF2D0A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1E55-2464-4E48-81E6-5C5FC474E7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50920" y="60580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El comando </a:t>
            </a:r>
            <a:r>
              <a:rPr b="1" lang="es-MX" sz="1800" spc="-1" strike="noStrike">
                <a:solidFill>
                  <a:srgbClr val="ff0000"/>
                </a:solidFill>
                <a:latin typeface="Courier New"/>
              </a:rPr>
              <a:t>identify( )</a:t>
            </a: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 es una novedad  en la nueva versión de Ma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33720" y="-7632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dentify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60580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El comando </a:t>
            </a:r>
            <a:r>
              <a:rPr b="1" lang="es-MX" sz="1800" spc="-1" strike="noStrike">
                <a:solidFill>
                  <a:srgbClr val="ff0000"/>
                </a:solidFill>
                <a:latin typeface="Courier New"/>
              </a:rPr>
              <a:t>identify( )</a:t>
            </a: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 es una novedad  en la nueva versión de Ma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3720" y="-7632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dentify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952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evalf( Pi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141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lbertus Medium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queremos una aproximación decimal del número 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, ¿qué hacem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303640" y="2349360"/>
            <a:ext cx="895320" cy="2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5661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¿Cómo nos regresamos?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3720" y="-7632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dentify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1952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evalf( Pi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141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lbertus Medium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queremos una aproximación decimal del número 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, ¿qué hacem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303640" y="2349360"/>
            <a:ext cx="895320" cy="209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60865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9900"/>
                </a:solidFill>
                <a:latin typeface="Times New Roman"/>
              </a:rPr>
              <a:t>¿Cómo saber de dónde viene 3.141592654?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6000" y="2871720"/>
            <a:ext cx="68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identify( %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190440" cy="209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16000" y="3844800"/>
            <a:ext cx="68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identify( 4.555806216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519280" y="4437000"/>
            <a:ext cx="561960" cy="2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9T12:47:17Z</dcterms:modified>
  <cp:revision>612</cp:revision>
  <dc:subject/>
  <dc:title>No Slide Title</dc:title>
</cp:coreProperties>
</file>